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F5A-5F0D-4D94-92A8-DC6227F9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607-A4E4-4D6D-BE40-C05EEB6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D27-0010-4B95-B7C4-3666BCC9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0AA-EF1B-44C9-8F2E-1ED5D4AC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5496-1339-4091-9EF2-D073756B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E78A-18CD-4772-B39C-9AC4C7E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1B1E-0821-4156-913D-BCC48B9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461E-76D8-43AB-8DFA-6138B53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ACB-FD84-4128-8F9D-53FC3436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CC5-B546-4A08-AA4F-ADE43D0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71E8-71C3-4229-B773-9403268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ED2-4366-4237-95A6-6B538B55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8608-C5F0-4309-9802-AB17106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F388-CAE3-4794-B07B-C3260D03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953D-B5CD-4A42-BF47-188F2F0B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2C6B-C892-4F40-8554-B4D76D64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9F35-2605-4B86-8E61-821B3E0B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077-93EF-4BF4-9A98-2ECF5B4C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689-052E-4F88-9BEB-3E68423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FE8-FEFA-4147-BC88-1B3BA10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CBC-CFA3-4970-8671-9C186067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C5F-0C9F-4153-BFCE-DDE1068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538-6E24-4085-9779-0A8A6C1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B3C-DD75-466F-82CD-6634F43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27C-1F1C-49E6-AE3C-3226E243B4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5/06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Gruppo network cultura imprenditoriale e altern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C2F-BDD6-4284-A1F5-4E10521576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etto Incontr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tners region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N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SERCENTI  Regionale E.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c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agricoltur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derazione italiana agricoltori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cooperative 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a coope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e attivare il serv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chiesta di attivazione del servizio a Infocamere da parte delle C.C.I.A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camere abilita come Gestori le Associazioni di categoria interessate in base alle segnalazioni delle C.C.I.A.A. compilando gli appositi modu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richiesto di prevedere la possibilità che le Camere che attivano il servizio abilitino come enti gestori anche le associazioni regionali di categoria, qualora queste lo richiedano e previo accordo con i loro livelli provin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chiesto che almeno in una prima fase le Camere, all’atto di attivare il servizio, chiedano a Infocamere di non ammettere la modalità degli annunci indipendenti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incontri sul terri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endario di presentazioni del servizio incontrerete presso le sedi delle C.C.I.A.A., con il supporto tecnico dei funzionari di Infocamere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C.C.I.A.A. individuano una data e il luogo, informano previamente Unioncamere E.R. che avvisa le Associazioni di categoria regionali aderenti al protoc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ccolta adesioni da parte delle C.C.I.A.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9:51:21Z</dcterms:created>
  <dc:creator>lenzi</dc:creator>
  <dc:description/>
  <dc:language>en-US</dc:language>
  <cp:lastModifiedBy>lenzi</cp:lastModifiedBy>
  <dcterms:modified xsi:type="dcterms:W3CDTF">2009-06-12T10:14:01Z</dcterms:modified>
  <cp:revision>3</cp:revision>
  <dc:subject/>
  <dc:title>Progetto Incontrerete</dc:title>
</cp:coreProperties>
</file>